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618-21FF-44EB-974C-90D7D96A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A9E-A1F9-4710-8185-00BBBEA3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8FA-DC4A-4D75-8DC1-0B721AB5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4EC-AD18-46CB-BBB4-820915B0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E54-F03B-498D-B453-6E3EC514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3AF-3F33-4CD6-84FC-B898DB4F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229-E12C-4169-BC47-86D3A0FF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129-30B4-4433-A364-5290DF66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AE1-5103-4B03-A55E-F39044E4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0D1-9905-4DF3-B0CD-E72AE8AD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C06-B872-4D52-ABD6-0E932946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055-6E8B-47CB-96E7-1DBCF9A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4AFA-69E6-4463-8460-06684E15A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У Надеждинская средня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-306360" y="115920"/>
            <a:ext cx="9648720" cy="65530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539640" y="1052640"/>
            <a:ext cx="792000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Системы уравнения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с двумя переменными.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79280" y="731880"/>
          <a:ext cx="8785440" cy="5976720"/>
        </p:xfrm>
        <a:graphic>
          <a:graphicData uri="http://schemas.openxmlformats.org/drawingml/2006/table">
            <a:tbl>
              <a:tblPr/>
              <a:tblGrid>
                <a:gridCol w="4184640"/>
                <a:gridCol w="2019240"/>
                <a:gridCol w="2581560"/>
              </a:tblGrid>
              <a:tr h="195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музея-заповедн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54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пещеры Шеки-Хье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 000 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анчож –глуб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2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зеной-Ам  - глуб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-252360" y="-120600"/>
            <a:ext cx="95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Пользуясь информацией в тексте, установите соответствие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6"/>
          <p:cNvCxnSpPr/>
          <p:nvPr/>
        </p:nvCxnSpPr>
        <p:spPr>
          <a:xfrm>
            <a:off x="3995280" y="1413000"/>
            <a:ext cx="2809080" cy="20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Прямая со стрелкой 8"/>
          <p:cNvCxnSpPr/>
          <p:nvPr/>
        </p:nvCxnSpPr>
        <p:spPr>
          <a:xfrm flipV="1">
            <a:off x="3983040" y="1556640"/>
            <a:ext cx="288216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Прямая со стрелкой 10"/>
          <p:cNvCxnSpPr/>
          <p:nvPr/>
        </p:nvCxnSpPr>
        <p:spPr>
          <a:xfrm>
            <a:off x="3780000" y="5157720"/>
            <a:ext cx="30852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Прямая со стрелкой 12"/>
          <p:cNvCxnSpPr/>
          <p:nvPr/>
        </p:nvCxnSpPr>
        <p:spPr>
          <a:xfrm flipV="1">
            <a:off x="3983040" y="5157000"/>
            <a:ext cx="275040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каком году основан историко-архитектурный и природный музей-заповедник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8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еньшите его в 2 ра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еличьте на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делите на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15560"/>
            <a:ext cx="8989920" cy="66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 найти разность глубин двух озё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72-30=40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пособами можно решить систему уравнений с двумя переменными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https://urok.1sept.ru/articles/601480/Image5474.gif"/>
          <p:cNvPicPr/>
          <p:nvPr/>
        </p:nvPicPr>
        <p:blipFill>
          <a:blip r:embed="rId1"/>
          <a:stretch/>
        </p:blipFill>
        <p:spPr>
          <a:xfrm>
            <a:off x="250920" y="1341360"/>
            <a:ext cx="3600360" cy="2951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https://urok.1sept.ru/articles/601480/Image5475.gif"/>
          <p:cNvPicPr/>
          <p:nvPr/>
        </p:nvPicPr>
        <p:blipFill>
          <a:blip r:embed="rId2"/>
          <a:stretch/>
        </p:blipFill>
        <p:spPr>
          <a:xfrm>
            <a:off x="3994200" y="3618000"/>
            <a:ext cx="48258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 из точек является решением данной системы уравнен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(-7;1) Б) (7;1); В) (7;-1); С) (-7;-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: Б) (7;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https://urok.1sept.ru/articles/601480/Image5476.gif"/>
          <p:cNvPicPr/>
          <p:nvPr/>
        </p:nvPicPr>
        <p:blipFill>
          <a:blip r:embed="rId1"/>
          <a:stretch/>
        </p:blipFill>
        <p:spPr>
          <a:xfrm>
            <a:off x="900000" y="1628640"/>
            <a:ext cx="511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158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ая из точек является решением данной системы уравн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 (1;3); б) (-1; 3); С)(1;-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вет: А) (1;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https://urok.1sept.ru/articles/601480/Image5481.gif"/>
          <p:cNvPicPr/>
          <p:nvPr/>
        </p:nvPicPr>
        <p:blipFill>
          <a:blip r:embed="rId1"/>
          <a:stretch/>
        </p:blipFill>
        <p:spPr>
          <a:xfrm>
            <a:off x="2050920" y="1368360"/>
            <a:ext cx="4681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2" descr=""/>
          <p:cNvPicPr/>
          <p:nvPr/>
        </p:nvPicPr>
        <p:blipFill>
          <a:blip r:embed="rId1"/>
          <a:stretch/>
        </p:blipFill>
        <p:spPr>
          <a:xfrm>
            <a:off x="-30240" y="73080"/>
            <a:ext cx="89982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-360"/>
            <a:ext cx="9540720" cy="71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шите систему уравнен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https://urok.1sept.ru/articles/601480/Image5482.gif"/>
          <p:cNvPicPr/>
          <p:nvPr/>
        </p:nvPicPr>
        <p:blipFill>
          <a:blip r:embed="rId1"/>
          <a:stretch/>
        </p:blipFill>
        <p:spPr>
          <a:xfrm>
            <a:off x="1116000" y="1052640"/>
            <a:ext cx="727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6:13:56Z</dcterms:created>
  <dc:creator>User</dc:creator>
  <dc:description/>
  <dc:language>en-US</dc:language>
  <cp:lastModifiedBy>Admin</cp:lastModifiedBy>
  <dcterms:modified xsi:type="dcterms:W3CDTF">2022-02-15T09:35:50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50000000000010243100207f6000400038000</vt:lpwstr>
  </property>
</Properties>
</file>